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A92-2B4C-4D66-B727-EDBC02D0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390-7CCC-4ED1-8E6D-1B0C7E4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94A-EF78-4137-82E1-FF13C5CC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A0E-C9DA-4AEE-8F67-7FDF2324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3CB-EB9A-4B0A-A9EE-A51517BB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FEC-D224-4396-BC5F-CF44E32C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99F-6750-404E-91FE-58A4C71D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0B6-DC9F-4DE5-AA2A-13CC7051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F8D-4C10-4CD2-86C6-B3E7DDA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C6D-0D06-4D43-9B80-3DC4F27F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A02-3956-4740-A4BA-42CA795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565-55BB-4484-B6E4-7563EF6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A0D-468D-44A2-87A4-E3452BC4B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02040" y="490680"/>
            <a:ext cx="711000" cy="996840"/>
            <a:chOff x="3002040" y="490680"/>
            <a:chExt cx="711000" cy="996840"/>
          </a:xfrm>
        </p:grpSpPr>
        <p:sp>
          <p:nvSpPr>
            <p:cNvPr id="42" name=""/>
            <p:cNvSpPr/>
            <p:nvPr/>
          </p:nvSpPr>
          <p:spPr>
            <a:xfrm flipH="1">
              <a:off x="3003480" y="522360"/>
              <a:ext cx="704880" cy="965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44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5870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455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38544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1236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239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420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5052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27744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04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609720" y="1266840"/>
              <a:ext cx="66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250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21552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344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60756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504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21552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03300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73200" y="968400"/>
              <a:ext cx="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9160" y="1420920"/>
              <a:ext cx="5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30360" y="1036440"/>
              <a:ext cx="0" cy="38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292200" y="1420920"/>
              <a:ext cx="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441600" y="96372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59080" y="102888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62240" y="868680"/>
              <a:ext cx="7776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5480" y="91152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01760" y="1420920"/>
              <a:ext cx="7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8840" y="871560"/>
              <a:ext cx="540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46360" y="935280"/>
              <a:ext cx="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31960" y="1420920"/>
              <a:ext cx="7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06680" y="782280"/>
              <a:ext cx="144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6680" y="797040"/>
              <a:ext cx="13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1960" y="793800"/>
              <a:ext cx="1144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39960" y="92556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35400" y="784080"/>
              <a:ext cx="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181320" y="7970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61800" y="795600"/>
              <a:ext cx="1270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068640" y="887040"/>
              <a:ext cx="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05160" y="960120"/>
              <a:ext cx="252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3234960" y="966600"/>
              <a:ext cx="2700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2040" y="4906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w3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5:27:45Z</dcterms:created>
  <dc:creator>iw3ici</dc:creator>
  <dc:description/>
  <dc:language>en-US</dc:language>
  <cp:lastModifiedBy>iw3ici</cp:lastModifiedBy>
  <dcterms:modified xsi:type="dcterms:W3CDTF">2005-03-16T15:44:45Z</dcterms:modified>
  <cp:revision>3</cp:revision>
  <dc:subject/>
  <dc:title>Presentazione di PowerPoint</dc:title>
</cp:coreProperties>
</file>